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1EBD-68B9-4442-8055-7418C8CB9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02F0-E3FA-44D2-BB5F-ED681B3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C11C-EBEB-4403-B6FD-9B4FDAE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D254-C87B-4180-B83C-5A84EC1B3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0A34-F26E-4217-B4D3-E4B221F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6B36-73CA-43AA-A257-A2E5C83A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92C3-743F-4B02-8544-6721D75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0A58-ED0B-47A0-9B97-FCE5D280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9E2B-01E1-46FB-B581-7EC8CB8E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E63B-586B-498A-B8E9-96E07D5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9650-70CC-43FC-871D-88F7424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02C2-AB46-4A2E-A16D-B00167C9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6F53-FD96-486E-9982-13D3C93F1AA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2560" y="2376360"/>
            <a:ext cx="457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udy of Lif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mes &amp; Concep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320" y="4735440"/>
            <a:ext cx="3581280" cy="174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444600"/>
            <a:ext cx="2895840" cy="199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5880" y="4638600"/>
            <a:ext cx="2895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389240"/>
            <a:ext cx="7924680" cy="5316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uti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inuity &amp; chan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of life is based on heritable information in the form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– the genetic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terial – carrie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ological inform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1 gener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the nex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44722" b="7200"/>
          <a:stretch/>
        </p:blipFill>
        <p:spPr>
          <a:xfrm>
            <a:off x="5638680" y="2309760"/>
            <a:ext cx="2181240" cy="454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2179" t="0" r="7458" b="7200"/>
          <a:stretch/>
        </p:blipFill>
        <p:spPr>
          <a:xfrm>
            <a:off x="7315200" y="2309760"/>
            <a:ext cx="1593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follow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 &amp; function are correlated at all levels of biological organiz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38280" y="2338560"/>
            <a:ext cx="6510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ory mechanisms ensure a dynamic balance through feedback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38160" y="2806560"/>
            <a:ext cx="9029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rdependenc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organism i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island standing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o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1491" b="2998"/>
          <a:stretch/>
        </p:blipFill>
        <p:spPr>
          <a:xfrm>
            <a:off x="4589640" y="1066680"/>
            <a:ext cx="4554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, technology &amp; societ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cience &amp; technology must function within the framework of societ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th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20" y="2743200"/>
            <a:ext cx="89391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mbrella concep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urring principles &amp; id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&amp; un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ual aspects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2098800"/>
            <a:ext cx="6782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25900" t="0" r="0" b="0"/>
          <a:stretch/>
        </p:blipFill>
        <p:spPr>
          <a:xfrm>
            <a:off x="0" y="0"/>
            <a:ext cx="3952800" cy="35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35440" y="0"/>
            <a:ext cx="3327480" cy="4991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165800" y="0"/>
            <a:ext cx="205452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2344" r="9355" b="11689"/>
          <a:stretch/>
        </p:blipFill>
        <p:spPr>
          <a:xfrm>
            <a:off x="4614840" y="4346640"/>
            <a:ext cx="4605480" cy="258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3340080"/>
            <a:ext cx="2451240" cy="237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828800" y="4635360"/>
            <a:ext cx="3124080" cy="229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286000" y="2895480"/>
            <a:ext cx="3048120" cy="22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0" y="5423040"/>
            <a:ext cx="131904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72200" y="2590920"/>
            <a:ext cx="3048120" cy="17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rcRect l="8229" t="0" r="4125" b="0"/>
          <a:stretch/>
        </p:blipFill>
        <p:spPr>
          <a:xfrm>
            <a:off x="990720" y="5686560"/>
            <a:ext cx="120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t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o organisms have in comm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y do similarities exis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558720"/>
            <a:ext cx="3054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 as a process of inqui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ergy transf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&amp;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ationship of structure to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dependence in n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, technology &amp; socie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889"/>
          <a:stretch/>
        </p:blipFill>
        <p:spPr>
          <a:xfrm>
            <a:off x="4495680" y="3535200"/>
            <a:ext cx="4572000" cy="3230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explains diversity &amp; un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relation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nected through a common ances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tural sel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aptations i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vironm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rd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295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rowth &amp;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evelopmen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spons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meostasi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624852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volutionar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91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tiliz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vels of organ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597" r="0" b="3597"/>
          <a:stretch/>
        </p:blipFill>
        <p:spPr>
          <a:xfrm>
            <a:off x="685800" y="1320840"/>
            <a:ext cx="7848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0" b="3341"/>
          <a:stretch/>
        </p:blipFill>
        <p:spPr>
          <a:xfrm>
            <a:off x="2895480" y="380880"/>
            <a:ext cx="615024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ch level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as emergent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is basic uni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3886200" y="1847880"/>
            <a:ext cx="5257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 theo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ed with early microscop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lif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ifferences are there between organism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3 Domain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800"/>
          <a:stretch/>
        </p:blipFill>
        <p:spPr>
          <a:xfrm>
            <a:off x="1066680" y="1600200"/>
            <a:ext cx="7174080" cy="512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129456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Archaea, Eukary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rganizing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3591"/>
          <a:stretch/>
        </p:blipFill>
        <p:spPr>
          <a:xfrm>
            <a:off x="4724280" y="1511280"/>
            <a:ext cx="4187880" cy="5194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sense ou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erarchical sche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themes of Biolog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is an ever expanding body of knowled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o much to memorize it 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neraliz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 a framework upon which to organize new knowled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mes are fundamental in understanding the nature of living organism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ich science is growing the fastest in new knowledge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!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57800" y="4352760"/>
            <a:ext cx="3352680" cy="227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8880" y="2590920"/>
            <a:ext cx="404640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436840" y="6323760"/>
            <a:ext cx="261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r. Mary Claire 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7000" y="2133360"/>
            <a:ext cx="3143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omic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proteomics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jects a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riving researc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1516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517920"/>
            <a:ext cx="4803840" cy="1617480"/>
          </a:xfrm>
          <a:custGeom>
            <a:avLst/>
            <a:gdLst/>
            <a:ahLst/>
            <a:rect l="l" t="t" r="r" b="b"/>
            <a:pathLst>
              <a:path w="13346" h="4491">
                <a:moveTo>
                  <a:pt x="3349" y="10864"/>
                </a:moveTo>
                <a:cubicBezTo>
                  <a:pt x="3316" y="10864"/>
                  <a:pt x="3289" y="10803"/>
                  <a:pt x="3249" y="10815"/>
                </a:cubicBezTo>
                <a:cubicBezTo>
                  <a:pt x="3126" y="10852"/>
                  <a:pt x="2978" y="10966"/>
                  <a:pt x="2877" y="11038"/>
                </a:cubicBezTo>
                <a:cubicBezTo>
                  <a:pt x="2670" y="11187"/>
                  <a:pt x="2478" y="11370"/>
                  <a:pt x="2307" y="11559"/>
                </a:cubicBezTo>
                <a:cubicBezTo>
                  <a:pt x="2091" y="11797"/>
                  <a:pt x="1834" y="12133"/>
                  <a:pt x="1960" y="12477"/>
                </a:cubicBezTo>
                <a:cubicBezTo>
                  <a:pt x="2047" y="12716"/>
                  <a:pt x="2366" y="12839"/>
                  <a:pt x="2580" y="12923"/>
                </a:cubicBezTo>
                <a:cubicBezTo>
                  <a:pt x="2929" y="13060"/>
                  <a:pt x="3309" y="13152"/>
                  <a:pt x="3671" y="13246"/>
                </a:cubicBezTo>
                <a:cubicBezTo>
                  <a:pt x="4113" y="13361"/>
                  <a:pt x="4527" y="13433"/>
                  <a:pt x="4986" y="13419"/>
                </a:cubicBezTo>
                <a:cubicBezTo>
                  <a:pt x="5411" y="13406"/>
                  <a:pt x="5825" y="13269"/>
                  <a:pt x="6176" y="13022"/>
                </a:cubicBezTo>
                <a:cubicBezTo>
                  <a:pt x="6495" y="12797"/>
                  <a:pt x="6683" y="12460"/>
                  <a:pt x="6871" y="12129"/>
                </a:cubicBezTo>
                <a:cubicBezTo>
                  <a:pt x="7066" y="11787"/>
                  <a:pt x="7206" y="11387"/>
                  <a:pt x="7218" y="10988"/>
                </a:cubicBezTo>
                <a:cubicBezTo>
                  <a:pt x="7229" y="10612"/>
                  <a:pt x="7021" y="10300"/>
                  <a:pt x="6722" y="10096"/>
                </a:cubicBezTo>
                <a:cubicBezTo>
                  <a:pt x="6285" y="9798"/>
                  <a:pt x="5795" y="9763"/>
                  <a:pt x="5283" y="9773"/>
                </a:cubicBezTo>
                <a:cubicBezTo>
                  <a:pt x="4664" y="9785"/>
                  <a:pt x="4055" y="9952"/>
                  <a:pt x="3497" y="10220"/>
                </a:cubicBezTo>
                <a:cubicBezTo>
                  <a:pt x="2950" y="10483"/>
                  <a:pt x="2333" y="10905"/>
                  <a:pt x="2183" y="11534"/>
                </a:cubicBezTo>
                <a:cubicBezTo>
                  <a:pt x="2083" y="11955"/>
                  <a:pt x="2257" y="12312"/>
                  <a:pt x="2580" y="12576"/>
                </a:cubicBezTo>
                <a:cubicBezTo>
                  <a:pt x="3132" y="13028"/>
                  <a:pt x="3889" y="13060"/>
                  <a:pt x="4564" y="12998"/>
                </a:cubicBezTo>
                <a:cubicBezTo>
                  <a:pt x="5224" y="12937"/>
                  <a:pt x="5920" y="12777"/>
                  <a:pt x="6524" y="12502"/>
                </a:cubicBezTo>
                <a:cubicBezTo>
                  <a:pt x="6873" y="12343"/>
                  <a:pt x="7334" y="12094"/>
                  <a:pt x="7441" y="11683"/>
                </a:cubicBezTo>
                <a:cubicBezTo>
                  <a:pt x="7514" y="11403"/>
                  <a:pt x="7334" y="11135"/>
                  <a:pt x="7094" y="11013"/>
                </a:cubicBezTo>
                <a:cubicBezTo>
                  <a:pt x="6963" y="10947"/>
                  <a:pt x="6447" y="10801"/>
                  <a:pt x="6350" y="11013"/>
                </a:cubicBezTo>
                <a:cubicBezTo>
                  <a:pt x="6255" y="11220"/>
                  <a:pt x="6365" y="11160"/>
                  <a:pt x="6499" y="11286"/>
                </a:cubicBezTo>
              </a:path>
              <a:path w="13346" h="4491">
                <a:moveTo>
                  <a:pt x="9947" y="10864"/>
                </a:moveTo>
                <a:cubicBezTo>
                  <a:pt x="9846" y="10949"/>
                  <a:pt x="9769" y="10962"/>
                  <a:pt x="9649" y="11038"/>
                </a:cubicBezTo>
                <a:cubicBezTo>
                  <a:pt x="9439" y="11170"/>
                  <a:pt x="9325" y="11392"/>
                  <a:pt x="9227" y="11609"/>
                </a:cubicBezTo>
                <a:cubicBezTo>
                  <a:pt x="9129" y="11826"/>
                  <a:pt x="9101" y="12088"/>
                  <a:pt x="9227" y="12303"/>
                </a:cubicBezTo>
                <a:cubicBezTo>
                  <a:pt x="9407" y="12610"/>
                  <a:pt x="9847" y="12690"/>
                  <a:pt x="10170" y="12700"/>
                </a:cubicBezTo>
                <a:cubicBezTo>
                  <a:pt x="10716" y="12716"/>
                  <a:pt x="11339" y="12582"/>
                  <a:pt x="11832" y="12353"/>
                </a:cubicBezTo>
                <a:cubicBezTo>
                  <a:pt x="12103" y="12227"/>
                  <a:pt x="12199" y="12148"/>
                  <a:pt x="12303" y="11906"/>
                </a:cubicBezTo>
                <a:cubicBezTo>
                  <a:pt x="12026" y="11677"/>
                  <a:pt x="11713" y="11748"/>
                  <a:pt x="11361" y="11832"/>
                </a:cubicBezTo>
                <a:cubicBezTo>
                  <a:pt x="10780" y="11971"/>
                  <a:pt x="10240" y="12241"/>
                  <a:pt x="9847" y="12700"/>
                </a:cubicBezTo>
                <a:cubicBezTo>
                  <a:pt x="9567" y="13027"/>
                  <a:pt x="9406" y="13530"/>
                  <a:pt x="9674" y="13915"/>
                </a:cubicBezTo>
                <a:cubicBezTo>
                  <a:pt x="10026" y="14421"/>
                  <a:pt x="10823" y="14259"/>
                  <a:pt x="11311" y="14163"/>
                </a:cubicBezTo>
                <a:cubicBezTo>
                  <a:pt x="11986" y="14030"/>
                  <a:pt x="12744" y="13809"/>
                  <a:pt x="13196" y="13246"/>
                </a:cubicBezTo>
                <a:cubicBezTo>
                  <a:pt x="13473" y="12901"/>
                  <a:pt x="13376" y="12447"/>
                  <a:pt x="12998" y="12229"/>
                </a:cubicBezTo>
                <a:cubicBezTo>
                  <a:pt x="12695" y="12127"/>
                  <a:pt x="12590" y="12093"/>
                  <a:pt x="12378" y="12055"/>
                </a:cubicBez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3340080"/>
            <a:ext cx="6813360" cy="1857240"/>
          </a:xfrm>
          <a:custGeom>
            <a:avLst/>
            <a:gdLst/>
            <a:ahLst/>
            <a:rect l="l" t="t" r="r" b="b"/>
            <a:pathLst>
              <a:path w="18927" h="5160">
                <a:moveTo>
                  <a:pt x="5531" y="13866"/>
                </a:moveTo>
                <a:cubicBezTo>
                  <a:pt x="5612" y="13856"/>
                  <a:pt x="5738" y="13827"/>
                  <a:pt x="5829" y="13816"/>
                </a:cubicBezTo>
                <a:cubicBezTo>
                  <a:pt x="6487" y="13735"/>
                  <a:pt x="7152" y="13695"/>
                  <a:pt x="7813" y="13643"/>
                </a:cubicBezTo>
                <a:cubicBezTo>
                  <a:pt x="8688" y="13574"/>
                  <a:pt x="9566" y="13544"/>
                  <a:pt x="10443" y="13494"/>
                </a:cubicBezTo>
                <a:cubicBezTo>
                  <a:pt x="10674" y="13481"/>
                  <a:pt x="11093" y="13487"/>
                  <a:pt x="11311" y="13370"/>
                </a:cubicBezTo>
                <a:cubicBezTo>
                  <a:pt x="11311" y="13312"/>
                  <a:pt x="11311" y="13287"/>
                  <a:pt x="11311" y="13246"/>
                </a:cubicBezTo>
                <a:cubicBezTo>
                  <a:pt x="10777" y="12693"/>
                  <a:pt x="10258" y="12033"/>
                  <a:pt x="9500" y="11807"/>
                </a:cubicBezTo>
                <a:cubicBezTo>
                  <a:pt x="8864" y="11617"/>
                  <a:pt x="7988" y="11662"/>
                  <a:pt x="7367" y="11857"/>
                </a:cubicBezTo>
                <a:cubicBezTo>
                  <a:pt x="7244" y="11896"/>
                  <a:pt x="6468" y="12181"/>
                  <a:pt x="6474" y="12427"/>
                </a:cubicBezTo>
                <a:cubicBezTo>
                  <a:pt x="6480" y="12674"/>
                  <a:pt x="6593" y="12675"/>
                  <a:pt x="6846" y="12750"/>
                </a:cubicBezTo>
                <a:cubicBezTo>
                  <a:pt x="7368" y="12905"/>
                  <a:pt x="8168" y="12744"/>
                  <a:pt x="8657" y="12526"/>
                </a:cubicBezTo>
                <a:cubicBezTo>
                  <a:pt x="8749" y="12485"/>
                  <a:pt x="8901" y="12380"/>
                  <a:pt x="8954" y="12353"/>
                </a:cubicBezTo>
                <a:cubicBezTo>
                  <a:pt x="8700" y="12201"/>
                  <a:pt x="8543" y="12026"/>
                  <a:pt x="8161" y="11981"/>
                </a:cubicBezTo>
                <a:cubicBezTo>
                  <a:pt x="7679" y="11924"/>
                  <a:pt x="7042" y="11913"/>
                  <a:pt x="6598" y="12129"/>
                </a:cubicBezTo>
                <a:cubicBezTo>
                  <a:pt x="6209" y="12318"/>
                  <a:pt x="6198" y="12743"/>
                  <a:pt x="6077" y="13097"/>
                </a:cubicBezTo>
                <a:cubicBezTo>
                  <a:pt x="6368" y="13556"/>
                  <a:pt x="6452" y="13837"/>
                  <a:pt x="7193" y="13742"/>
                </a:cubicBezTo>
                <a:cubicBezTo>
                  <a:pt x="8305" y="13600"/>
                  <a:pt x="9531" y="12753"/>
                  <a:pt x="10244" y="11906"/>
                </a:cubicBezTo>
                <a:cubicBezTo>
                  <a:pt x="10323" y="11769"/>
                  <a:pt x="10357" y="11753"/>
                  <a:pt x="10344" y="11658"/>
                </a:cubicBezTo>
                <a:cubicBezTo>
                  <a:pt x="9643" y="11639"/>
                  <a:pt x="9087" y="11741"/>
                  <a:pt x="8384" y="12005"/>
                </a:cubicBezTo>
                <a:cubicBezTo>
                  <a:pt x="7754" y="12241"/>
                  <a:pt x="7323" y="12593"/>
                  <a:pt x="6821" y="12923"/>
                </a:cubicBezTo>
                <a:cubicBezTo>
                  <a:pt x="7047" y="13144"/>
                  <a:pt x="7013" y="13341"/>
                  <a:pt x="7491" y="13419"/>
                </a:cubicBezTo>
                <a:cubicBezTo>
                  <a:pt x="8985" y="13663"/>
                  <a:pt x="11034" y="13058"/>
                  <a:pt x="11807" y="11658"/>
                </a:cubicBezTo>
                <a:cubicBezTo>
                  <a:pt x="11859" y="11275"/>
                  <a:pt x="11872" y="11140"/>
                  <a:pt x="11757" y="10889"/>
                </a:cubicBezTo>
                <a:cubicBezTo>
                  <a:pt x="10442" y="10126"/>
                  <a:pt x="9173" y="10395"/>
                  <a:pt x="7739" y="11063"/>
                </a:cubicBezTo>
                <a:cubicBezTo>
                  <a:pt x="6878" y="11464"/>
                  <a:pt x="6653" y="11781"/>
                  <a:pt x="6300" y="12477"/>
                </a:cubicBezTo>
                <a:cubicBezTo>
                  <a:pt x="7135" y="13181"/>
                  <a:pt x="7613" y="13498"/>
                  <a:pt x="8855" y="13469"/>
                </a:cubicBezTo>
                <a:cubicBezTo>
                  <a:pt x="10906" y="13421"/>
                  <a:pt x="13219" y="12503"/>
                  <a:pt x="14139" y="10542"/>
                </a:cubicBezTo>
                <a:cubicBezTo>
                  <a:pt x="14264" y="10044"/>
                  <a:pt x="14345" y="9940"/>
                  <a:pt x="14188" y="9649"/>
                </a:cubicBezTo>
                <a:cubicBezTo>
                  <a:pt x="12917" y="9602"/>
                  <a:pt x="12071" y="9700"/>
                  <a:pt x="10840" y="10492"/>
                </a:cubicBezTo>
                <a:cubicBezTo>
                  <a:pt x="10091" y="10974"/>
                  <a:pt x="9217" y="11873"/>
                  <a:pt x="9351" y="12849"/>
                </a:cubicBezTo>
                <a:cubicBezTo>
                  <a:pt x="9520" y="14080"/>
                  <a:pt x="10985" y="14400"/>
                  <a:pt x="12005" y="14436"/>
                </a:cubicBezTo>
                <a:cubicBezTo>
                  <a:pt x="12991" y="14347"/>
                  <a:pt x="13259" y="14361"/>
                  <a:pt x="13791" y="13990"/>
                </a:cubicBezTo>
                <a:cubicBezTo>
                  <a:pt x="14243" y="13607"/>
                  <a:pt x="14262" y="13708"/>
                  <a:pt x="14139" y="13146"/>
                </a:cubicBezTo>
                <a:cubicBezTo>
                  <a:pt x="13953" y="12294"/>
                  <a:pt x="12987" y="12413"/>
                  <a:pt x="12402" y="12452"/>
                </a:cubicBezTo>
                <a:cubicBezTo>
                  <a:pt x="12407" y="12626"/>
                  <a:pt x="12183" y="12892"/>
                  <a:pt x="12402" y="13072"/>
                </a:cubicBezTo>
                <a:cubicBezTo>
                  <a:pt x="13206" y="13733"/>
                  <a:pt x="14305" y="13257"/>
                  <a:pt x="15106" y="12774"/>
                </a:cubicBezTo>
                <a:cubicBezTo>
                  <a:pt x="16370" y="12011"/>
                  <a:pt x="17202" y="10861"/>
                  <a:pt x="17760" y="9550"/>
                </a:cubicBezTo>
                <a:cubicBezTo>
                  <a:pt x="15865" y="9126"/>
                  <a:pt x="13828" y="10272"/>
                  <a:pt x="12080" y="11212"/>
                </a:cubicBezTo>
                <a:cubicBezTo>
                  <a:pt x="11277" y="11644"/>
                  <a:pt x="10702" y="12191"/>
                  <a:pt x="10096" y="12700"/>
                </a:cubicBezTo>
                <a:cubicBezTo>
                  <a:pt x="10918" y="13207"/>
                  <a:pt x="11533" y="13410"/>
                  <a:pt x="12601" y="13469"/>
                </a:cubicBezTo>
                <a:cubicBezTo>
                  <a:pt x="12684" y="13474"/>
                  <a:pt x="14740" y="13617"/>
                  <a:pt x="14759" y="13047"/>
                </a:cubicBezTo>
                <a:cubicBezTo>
                  <a:pt x="14766" y="12845"/>
                  <a:pt x="14165" y="12671"/>
                  <a:pt x="14362" y="12626"/>
                </a:cubicBezTo>
                <a:cubicBezTo>
                  <a:pt x="14671" y="12556"/>
                  <a:pt x="14939" y="12705"/>
                  <a:pt x="15255" y="12700"/>
                </a:cubicBezTo>
                <a:cubicBezTo>
                  <a:pt x="16878" y="12673"/>
                  <a:pt x="18431" y="12387"/>
                  <a:pt x="20042" y="12303"/>
                </a:cubicBezTo>
                <a:cubicBezTo>
                  <a:pt x="20599" y="12274"/>
                  <a:pt x="21085" y="12354"/>
                  <a:pt x="21679" y="12278"/>
                </a:cubicBezTo>
                <a:cubicBezTo>
                  <a:pt x="22600" y="12160"/>
                  <a:pt x="23505" y="11961"/>
                  <a:pt x="24309" y="11509"/>
                </a:cubicBezTo>
                <a:cubicBezTo>
                  <a:pt x="24317" y="11476"/>
                  <a:pt x="24325" y="11443"/>
                  <a:pt x="24333" y="11410"/>
                </a:cubicBezTo>
                <a:cubicBezTo>
                  <a:pt x="23960" y="11037"/>
                  <a:pt x="23816" y="10921"/>
                  <a:pt x="23192" y="10864"/>
                </a:cubicBezTo>
                <a:cubicBezTo>
                  <a:pt x="22166" y="10771"/>
                  <a:pt x="21421" y="11484"/>
                  <a:pt x="21208" y="12452"/>
                </a:cubicBezTo>
                <a:cubicBezTo>
                  <a:pt x="21185" y="12792"/>
                  <a:pt x="21171" y="12885"/>
                  <a:pt x="21233" y="13097"/>
                </a:cubicBezTo>
                <a:cubicBezTo>
                  <a:pt x="22017" y="13411"/>
                  <a:pt x="22424" y="13581"/>
                  <a:pt x="23316" y="13022"/>
                </a:cubicBezTo>
                <a:cubicBezTo>
                  <a:pt x="23748" y="12751"/>
                  <a:pt x="24934" y="11300"/>
                  <a:pt x="24457" y="10691"/>
                </a:cubicBezTo>
                <a:cubicBezTo>
                  <a:pt x="24131" y="10274"/>
                  <a:pt x="23587" y="10074"/>
                  <a:pt x="23044" y="10071"/>
                </a:cubicBezTo>
                <a:cubicBezTo>
                  <a:pt x="22646" y="10069"/>
                  <a:pt x="22892" y="10147"/>
                  <a:pt x="22671" y="10368"/>
                </a:cubicBezTo>
                <a:cubicBezTo>
                  <a:pt x="22405" y="10874"/>
                  <a:pt x="22318" y="11070"/>
                  <a:pt x="22349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40" b="3597"/>
          <a:stretch/>
        </p:blipFill>
        <p:spPr>
          <a:xfrm>
            <a:off x="3798720" y="1347840"/>
            <a:ext cx="5268960" cy="530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eatable observations &amp; testable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>
            <a:off x="914400" y="2666880"/>
            <a:ext cx="267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flipH="1">
            <a:off x="1171080" y="2057400"/>
            <a:ext cx="3629160" cy="4611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e theme of biolo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2572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9040" y="6201360"/>
            <a:ext cx="2212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harles Darw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181480" y="685800"/>
            <a:ext cx="3783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Nothing in biology makes sense except</a:t>
            </a:r>
            <a:r>
              <a:rPr b="0" lang="en-US" sz="33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in the light of evolution.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5120" y="464796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— </a:t>
            </a: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Theodosius Dobzhansky</a:t>
            </a:r>
            <a:endParaRPr b="1" lang="en-US" sz="21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58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419720" cy="294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2970360"/>
            <a:ext cx="4314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1092" b="3597"/>
          <a:stretch/>
        </p:blipFill>
        <p:spPr>
          <a:xfrm>
            <a:off x="4343400" y="2668680"/>
            <a:ext cx="4648320" cy="41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transf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is an open syste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sms continuously interac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the environ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comes in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goes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is us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8840" y="5866560"/>
            <a:ext cx="276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tropy rules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4-09-08T23:23:27Z</cp:lastPrinted>
  <dcterms:modified xsi:type="dcterms:W3CDTF">2007-09-05T18:05:24Z</dcterms:modified>
  <cp:revision>253</cp:revision>
  <dc:subject>AP &amp; Regents Biology</dc:subject>
  <dc:title>AP &amp; Regents Biology</dc:title>
</cp:coreProperties>
</file>